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9DCC-4AC9-4ED7-B304-A732B2073ED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79E3-A641-4C92-AE2E-A2552EA973D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6EBD-7EE2-4E35-B634-531BC1BFB01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A0BB-A7F6-4312-8CE2-564A8F528F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9956-ADE7-41A5-BE4F-D227FDF6224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2531-853E-4B33-9566-4A6F032C51B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0978-491F-4948-A180-1E3520CD63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7B1C-6F80-416B-B891-0A9A28F32F5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6A48-E734-4325-8ED3-C77CB80F9F7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62A-C4DC-4707-856F-241BCAF1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3EE-EB1D-4EBA-B125-7A764852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C5C-2978-4B21-9DDA-4203BB61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CEF-ED61-4F93-8962-1F227DA6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A001-9C12-47A6-82D9-36BBCDB6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FA0A-21E7-4311-97F7-43448830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3D63-4D59-48D5-AEB4-249D34F2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6B57-C2BC-45B3-A8AB-A617EF75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3D5D-6624-4524-B5FE-6E86F2D0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ADDD-9840-4637-BEC1-2FD0515F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5647-C1C8-4938-9CF0-31EC973E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762-D2F0-4493-A66E-D4A1A869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314C-F908-41C2-AC6C-33FAFDED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A777-A6DD-442B-A1AF-5D531144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4D82-C377-4BC4-AE39-3392EA3E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4BD7-41C8-4DFA-8008-26C78270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EBF7-7030-41E2-BB54-40FB581C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FECD-1540-4EE5-A74F-AB5C6F84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725D-E0E8-402B-A0E1-1FE61A8B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B8C0-569D-41EE-8B5A-9D200BC1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BE7C-DF4F-4C5E-8ACB-289BFC99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8894C-275A-47AE-995E-0890FD84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B71-D46A-4A75-85C8-2F2C5AFE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6E921-DF7B-46F7-92F5-65774680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D1AF-FD0A-4F41-8AE4-826CD1E5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C85F-A229-40A0-AC93-C2E3312A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F4E5-48EA-4F3E-A6F7-23ADF3B2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B0564-6ECF-49D2-863B-3850A91F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420FE-5193-42E4-9784-B8EBB4CF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1FC0-7BAB-4698-8172-F8DA5A32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C769-6611-4B43-9BE4-D240B146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6D05-D9BF-4560-861E-DFBC44C8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8B97-A626-42F1-9540-094C6951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6BB-FEA5-451A-942D-65BF911F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249C-87B2-4A8D-BFED-75BEC4A1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92D5C-1A3E-4D1C-A2D5-FCE9D132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8259C-7779-48A6-9750-6A9AE312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B3559-E9D4-4207-8515-4A99225C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18A0A-8CF8-4DB4-AD42-901D0E3B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EE468-0C24-4933-AE85-11BB2402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73296-1B3A-4255-88B0-E77C2893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6C0CE-ACAA-4A75-98AC-B7A30813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DA1BD-2578-49F9-B3F1-A675368C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DE201-4867-4511-9598-06212702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6F1-2E8E-412E-82F8-E088499E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29F2A-4805-437C-98C9-ECFEB715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104F-0AB8-4A19-BC3D-D2582B07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3665-4EC8-44B4-BADD-650C8E08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1F8AA-C5D9-4577-A288-DF20044D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6559B-549C-449E-BB44-8108B1BE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8F9BC-9ED1-4AAE-93EA-1B72A432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08EF5-F351-4C74-B3B2-329DD00A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4BBBB-5EA7-4437-982C-93CA4E1D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FEA4E-E4E3-44BE-B110-07CCD9A6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A562C-E609-4754-8CEF-98467393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230-7E1B-420C-A7CF-6114E5F7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CB0C1-D965-4233-8E83-E3A7735C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0BA38-4D26-45DE-B607-F1F312C0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E89D4-3CF6-461A-835C-B107F8B2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026DE-811B-45BF-8DD7-AE3E2B14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8F058-81A9-4151-8DAB-F5F87F4F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8906C-7EF4-4C66-8785-3385470E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F9726-C65A-4F88-9BFC-746E19C5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B82F9-F29A-45A0-A5D1-F765866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1F435-0C9F-40A4-A648-AD3DE6CF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1ABBE-62E9-4A25-8277-43713CC4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2E2-B71E-4F67-A0D0-6E39AFA9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D0E83-9563-491C-870E-2D1DE69D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7FC91-7993-4986-8D0A-A9C29110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93D6C-BCBA-4837-97A0-2FF48A19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D66-F3CA-41E3-BF8E-9CDC2B29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CE8-D827-4DAA-B0C6-4F13EF36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2184-9C9C-4027-8E7B-1A952AFF8D6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998B-A87F-45DE-8294-1C246065BD0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D3C6-3652-406B-A683-A54C3DDD8BE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1CEF-A553-4C1F-B547-444D3D505494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6D7A-8088-4AFF-A6F7-82B705620BC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A546-17C3-4173-AAAD-3CB2C1EE464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A93A-3144-4D15-A7BC-E332D46A905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2FBC-DBFF-46D8-BE70-56D058A2F7D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A2B0-243B-4B39-88A9-3412C5F8AFC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EBDD-F106-46B7-A937-7E3A9FA412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8672-101B-4A6B-90D3-12120CF0A9B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76F4-DACD-4BB4-8B6C-FD78EAAE8A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ABRIL/20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maio d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34800" y="6286680"/>
            <a:ext cx="108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116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11160" y="1341360"/>
            <a:ext cx="12180960" cy="51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692280"/>
            <a:ext cx="1219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abril de 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2320" y="6496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22320" y="1411200"/>
            <a:ext cx="12169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0" y="64882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0" y="1450800"/>
            <a:ext cx="1219212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34800" y="698400"/>
            <a:ext cx="1080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- INPC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360" y="6416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47520" y="1346040"/>
            <a:ext cx="1214460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765000"/>
            <a:ext cx="108014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7520" y="6488280"/>
            <a:ext cx="67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47520" y="1486080"/>
            <a:ext cx="12144600" cy="49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692280"/>
            <a:ext cx="10801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abril/2018 (IN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47520" y="6488280"/>
            <a:ext cx="67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47520" y="1700280"/>
            <a:ext cx="12144600" cy="47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34800" y="689040"/>
            <a:ext cx="109458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52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52560" y="1341360"/>
            <a:ext cx="121395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765000"/>
            <a:ext cx="1080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8 a abril/2018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abril/2018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0" y="1413000"/>
            <a:ext cx="12192120" cy="50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26880" y="692280"/>
            <a:ext cx="1080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8 a abril/2018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0" y="6464160"/>
            <a:ext cx="67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0" y="1343160"/>
            <a:ext cx="1214424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34800" y="69228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– RGP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abril/2017, março/2018 e abril/201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20520" y="6492960"/>
            <a:ext cx="88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 e Combate à F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219212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47520" y="1125360"/>
            <a:ext cx="1209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8 e abril de 2018, a quantidade de benefícios previdenciários e acidentários emitidos pela Previdência aumentou 31,5%, passando de 22,8 milhões para 29,9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08 a 2017 (dezembro), 2018 (abr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468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 e Combate à F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4680" y="1582560"/>
            <a:ext cx="12187440" cy="492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34800" y="717480"/>
            <a:ext cx="10801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a Previdência Social (2011 a 2018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abril de cada ano – Em R$ de abril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34800" y="116532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271,88, na média de janeiro e abril de 2018, o que representou um crescimento de 10,5% em relação ao mesmo período de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0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3068640" y="5157720"/>
            <a:ext cx="34941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H="1">
            <a:off x="7608960" y="2349360"/>
            <a:ext cx="3527280" cy="2743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92240" y="631188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0" y="1700280"/>
            <a:ext cx="1214424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6334200"/>
            <a:ext cx="1214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s: DATAPREV, SUB, SINTESE.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871880" y="2133720"/>
            <a:ext cx="55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erca de 67,0% dos benefícios pagos pelo INSS em abril/2018 possuíam o valor de até um salário mínimo, o que representa um contingente de 23,2 milhões de beneficiários dire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abril/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7520" y="1413000"/>
            <a:ext cx="1209672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CONCED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FLUX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bril/2017, março/2018 e abril/2018, Acumulado Janeiro a abril (2017 e 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0" y="6488280"/>
            <a:ext cx="93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agem 1" descr=""/>
          <p:cNvPicPr/>
          <p:nvPr/>
        </p:nvPicPr>
        <p:blipFill>
          <a:blip r:embed="rId1"/>
          <a:stretch/>
        </p:blipFill>
        <p:spPr>
          <a:xfrm>
            <a:off x="0" y="1197000"/>
            <a:ext cx="121921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34800" y="74448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pela Previdência Social (2010 a 2018)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cumulado de Janeiro a abril (Em milhares de benefí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92240" y="64245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0" y="1177920"/>
            <a:ext cx="121921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de abril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-15840" y="1413000"/>
            <a:ext cx="1220796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8160" y="1341360"/>
            <a:ext cx="1210608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de abril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7640" y="6353280"/>
            <a:ext cx="57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20520" y="1557360"/>
            <a:ext cx="121716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36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0" y="1473120"/>
            <a:ext cx="1219212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abril de 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7640" y="6464160"/>
            <a:ext cx="57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11160" y="1341360"/>
            <a:ext cx="121809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8-05-30T21:35:08Z</dcterms:modified>
  <cp:revision>418</cp:revision>
  <dc:subject/>
  <dc:title>Demografia</dc:title>
</cp:coreProperties>
</file>